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66B-9050-40E2-806D-CCCE2E0D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FD1-5841-4E75-8AF3-FC0A4B68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02C-6616-437E-A6E9-0389AE2B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638-5FB7-4431-AF82-6AC5D243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DE6-E6F2-4B1E-9C49-FF602A91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A05-1932-411C-9C11-18BC5544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69F-5F6E-4583-8150-46AAE3E6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226-129D-4920-8FB1-0086F1D0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350-783D-40CB-AEB0-90D4C3AA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E68-1C9A-43EB-8154-6BE8061D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C79-F678-4D6B-B856-269B3E80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DF4-878C-46FD-8EE1-09E1C9A6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E055-460A-4A36-84A9-9DAF9BC6F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5880" y="630360"/>
            <a:ext cx="7543800" cy="5562360"/>
          </a:xfrm>
          <a:prstGeom prst="rect">
            <a:avLst/>
          </a:prstGeom>
          <a:solidFill>
            <a:srgbClr val="0066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57160" y="719280"/>
            <a:ext cx="7400880" cy="538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54000" y="804960"/>
            <a:ext cx="7209000" cy="52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52840" y="85716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ertificate of Bap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52840" y="13082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This is to certify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09760" y="18493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That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8520" y="2306520"/>
            <a:ext cx="651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as Baptized in the Name of the Father, and of the Son, and of the Holy Spi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43080" y="276372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On the  _______  day of  _________________  in the  _______  year of Our L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25640" y="5348160"/>
            <a:ext cx="706284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According to the Rite of the Catholic Church in pure and natural wa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With the intention to remit  . . .  and for the remission of Original Si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55680" y="383076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At  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0320" y="4297320"/>
            <a:ext cx="471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Baptized by 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0320" y="4764240"/>
            <a:ext cx="47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itnessed by  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52840" y="33242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 ~ 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6:38:45Z</dcterms:created>
  <dc:creator>Mike Bizzaro</dc:creator>
  <dc:description/>
  <dc:language>en-US</dc:language>
  <cp:lastModifiedBy>Mike Bizzaro</cp:lastModifiedBy>
  <dcterms:modified xsi:type="dcterms:W3CDTF">2011-06-04T17:25:57Z</dcterms:modified>
  <cp:revision>9</cp:revision>
  <dc:subject/>
  <dc:title>Slide 1</dc:title>
</cp:coreProperties>
</file>